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1314113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CF0-7311-4C7E-B64B-68B6673B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6A1-AA71-4BEE-BF6C-FB4DDC8F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3A3-DB3C-48FF-BE37-F63737FD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0824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51280" y="187236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556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0824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51280" y="4296600"/>
            <a:ext cx="32785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CC23-238E-47CD-87C5-26967F8D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158-E396-45C2-9829-D3B3E8BE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EC2-CA35-4CC0-B811-8B6E5829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1BC-7A21-487A-931B-A5815AE6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BA98-A83F-46AA-83DD-485E8598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857160" y="1295280"/>
            <a:ext cx="9601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84C-8292-4895-ABF6-65742FA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3B5-5B51-4D71-B06A-CE103BD5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83400" y="429660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9FC-3604-4662-A727-09AF5D1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556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83400" y="1872360"/>
            <a:ext cx="49690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5560" y="4296600"/>
            <a:ext cx="1018296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673-48E4-402E-8720-5CFB61E6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66760" y="266760"/>
            <a:ext cx="10596600" cy="7275600"/>
            <a:chOff x="266760" y="266760"/>
            <a:chExt cx="10596600" cy="7275600"/>
          </a:xfrm>
        </p:grpSpPr>
        <p:sp>
          <p:nvSpPr>
            <p:cNvPr id="1" name=""/>
            <p:cNvSpPr/>
            <p:nvPr/>
          </p:nvSpPr>
          <p:spPr>
            <a:xfrm>
              <a:off x="268200" y="457200"/>
              <a:ext cx="1059048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66760" y="1066680"/>
              <a:ext cx="10596600" cy="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" y="266760"/>
              <a:ext cx="0" cy="148572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1073160"/>
              <a:ext cx="480960" cy="824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63680" y="1073160"/>
              <a:ext cx="81000" cy="48276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5120" y="463680"/>
              <a:ext cx="81000" cy="48240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5120" y="463680"/>
              <a:ext cx="482760" cy="824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55760" y="7540560"/>
              <a:ext cx="10404360" cy="1800"/>
            </a:xfrm>
            <a:prstGeom prst="line">
              <a:avLst/>
            </a:prstGeom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60720" y="466560"/>
              <a:ext cx="4762440" cy="6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orschungszentrum Karlsruhe</a:t>
              </a:r>
              <a:br>
                <a:rPr sz="1800"/>
              </a:b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in der Helmholtz-Gemeinschaf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12952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469440" y="7524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3137040" y="7524360"/>
            <a:ext cx="51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753040" y="7524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FA0E-0046-465F-9212-284871E2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565560" y="1872360"/>
            <a:ext cx="1018296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3720" indent="-4237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35388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414440" indent="-282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979640" indent="-282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546280" indent="-282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546280" indent="-282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546280" indent="-282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5760" y="1697040"/>
            <a:ext cx="106916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rror estimation for profiles retrieved from ground-based solar absorption FTIR measurements: PROFFIT Ver 9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 F. 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5040" y="3784680"/>
            <a:ext cx="957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ivation: Value of NDSC FTIR measurements relies heavily on specification of the quality of data products (trends, validation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 error estimation by current profile retrieval codes (SFIT2, PROFFIT9) is poor. Activities to improve the situation underway (S. Wood, error estimation working group), still neither a separate error calculation tool nor an extended error estimation option in the codes available. I try to sound the latter option: PROFFIT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9040" y="1623960"/>
            <a:ext cx="100821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stimation of errors due to interfering 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Problem: Error due to interfering species strongly underestima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son: Retrieval strategy minimises impact of interfering species on target, gain matrix maps spectral errors mainly on interfering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we aim at something els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idual spectral features due to interfering species affecting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lution: use modified gain matrix here, allow only fit of target species and aux parms (scale, tilt, shift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62120" y="6378480"/>
                <a:ext cx="95774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ε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ag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ies</m:t>
                                    </m:r>
                                    <m:r>
                                      <m:t xml:space="preserve">≠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rget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∂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∂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7760" y="1336680"/>
            <a:ext cx="540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FTIR, main isot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65400" y="1201680"/>
          <a:ext cx="8280360" cy="67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1201680"/>
                    <a:ext cx="828036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5040" y="1336680"/>
            <a:ext cx="316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ClON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65400" y="1231920"/>
          <a:ext cx="828180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1231920"/>
                    <a:ext cx="828180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5040" y="1336680"/>
            <a:ext cx="68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FTIR, main isot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36680" y="1166760"/>
          <a:ext cx="8282160" cy="679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1166760"/>
                    <a:ext cx="828216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7400" y="1984320"/>
            <a:ext cx="1008252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ffit Ver. 93 offers extended error calculatio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moothing error not included (dangerous concept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ise error typically not the leading error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fset, LOS, ILS, tilt, channeling: straightforward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 error more complicated: perturbation method, pattern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or due to interfering species: use of modified gai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gorous determination of spectroscopic / interfering species error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ossible in EEO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7400" y="1984320"/>
            <a:ext cx="100825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te on Computational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uncation error: can always be reduced to insignifcanc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mited accuracy of matrix inversion (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ointed out by A. Wiacek, Uo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of largest to smallest eigenvalue can become quite lar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36960" y="5160960"/>
                <a:ext cx="28368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7400" y="1984320"/>
            <a:ext cx="10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run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09760" y="2154240"/>
          <a:ext cx="7561080" cy="57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154240"/>
                    <a:ext cx="756108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17400" y="1984320"/>
            <a:ext cx="100825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putational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uted matrix equivalent to additional (unphysical) constraints. Results in coupling between independent components in state vector. Computed solution + averaging kernels refer to total constr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Problem might remain undetected if stable solution is still reach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982960" y="2705040"/>
                <a:ext cx="46195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7400" y="1984320"/>
            <a:ext cx="1008252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ple test of computational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st original total cost function! Does reduction of constraint still improve solu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st critical run found by Aldona in case of PROFFIT: UFTIR 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etrieval (148 elements in state vector!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7400" y="1552680"/>
            <a:ext cx="10082520" cy="16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mple test of computational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PROFFIT resides well in stable region for UFTIR O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retrieval (constraint could be reduced by another factor 2^10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09760" y="2333520"/>
          <a:ext cx="7561080" cy="56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2333520"/>
                    <a:ext cx="756108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3040" y="1839960"/>
            <a:ext cx="1044108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ntral strategic decision: Error estimation option in the retrieval code EEO vs. separate tool 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 does not require any extensions in retriev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 can include any error sources difficult to include into retrieval code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rchitecture (e.g. pressure broadening, pressure shift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ST can not start from the standard radiative transfer output + retrieval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code output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Powerful ST is considerably more complex than the retrieval tool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ST requires own input, much overlap to original input. Interface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ST updating along with the retrieval code (shared input, line mixing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cision: Go for EEO, accept limited capability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697040"/>
            <a:ext cx="10152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outline of error 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E- Retrieval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correlated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error modifies the spectrum, thereby disturbs the retrieved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in matrix G: sensitivity of retrieval wrt measuremen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xamples: noise, SZA, IL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ociated Co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770120" y="3208320"/>
                <a:ext cx="59767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ε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092320" y="5224320"/>
                <a:ext cx="54054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ε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∂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∂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145040" y="6880320"/>
                <a:ext cx="6553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∂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∂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∂</m:t>
                    </m:r>
                    <m:s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∂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2120" y="1407960"/>
            <a:ext cx="10152000" cy="72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oothing error: A chim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rieval does not preserve details of true pro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: True state and observed state (best estimate of the true state) reside in different spaces! Any true state is projected into an observed state, but no way back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oothing error abets a dangerous misconception: obser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 directly comparable with true state. Conseque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oothing error is large, no need to take further errors into accoun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comparison of “different” profiles (FTIR-in-situ, gb-satellite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ing incompatible assumptions on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sion: Smoothing error not included! (Note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s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13760" y="1120680"/>
            <a:ext cx="3671640" cy="25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35200" y="2705040"/>
                <a:ext cx="63356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b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ε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85880" y="3208320"/>
                <a:ext cx="33591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moot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649760" y="3208320"/>
                <a:ext cx="2592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moot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1697040"/>
            <a:ext cx="979164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ror sources taken into account by PROFFIT v 9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ffset in spectrum zero bas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LS (modulation + ph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ilt (for each M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nneling (4 frequencies, cos + sin ea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troscopic errors / interfering species (intensity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mperature (concept of T-patter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e: retrieval + reporting in altitude domain! – Hydrostatic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quilibrium needs readjustment. Analytical handling difficult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refore retrieval is repeated for each T-pattern. Expensiv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alculation of absorption coeffs, but no T derivs requi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479600"/>
            <a:ext cx="9791640" cy="60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 interf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FIT switches to extended error mode if additional input file “errcalc.inp” is found in path. Required additional input given ther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Target species for error calculation :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Channeling frequencies (4 frequencies, cm-1): 0.005  0.2  1.0  3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Assumed sds for:  Offset (nW/(cm**2 sterad cm-1)   LOS (rad)   ILSmod  (-)   ILSphas (rad): 1500.0  0.0015  0.04  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Assumed sds for Tilt per MW  (cm): 0.005  0.005  0.005  0.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Assumed sds channeling (cos + sin): 0.002 0.002 0.002 0.002 0.002 0.002 0.002 0.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Assumed sds interfering species (-): 0.02 0.02 0.0 0.01 0.01 0.01 0.01 0.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Number of T-patterns: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 T-patterns (nlevels x nTpatter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 …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** Number of partial columns: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************ for each partial column: level contribution (nlevels x nPartialColum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3400" y="1768320"/>
            <a:ext cx="979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4840" y="1295280"/>
            <a:ext cx="10185480" cy="61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spcBef>
                <a:spcPts val="700"/>
              </a:spcBef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FFIT93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kobians for error parms (offset, LOS, ILS, channel, tilt, spect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al error patterns for each parm (LOS: single pattern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nneling: 2 x NMWs x NChans, spectroscopy / interfering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es NMWs x NSpezies, temperature NTpatt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ll covariance due to all error parms (incl. noise covari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or pattern groups: Gaussian summation of all patterns of the same kind (+ Grouping / Gaussian summation of different kinds of err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nal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: Zero baseline offset, LOS, 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: Channeling + t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: Spectroscopy / interfering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4: All T-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: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: Sqrt(Diagonal) of full co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ll covariance for partial columns + sensi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tabLst>
                <a:tab algn="l" pos="0"/>
                <a:tab algn="l" pos="1400040"/>
                <a:tab algn="l" pos="2800440"/>
                <a:tab algn="l" pos="4200480"/>
                <a:tab algn="l" pos="5600880"/>
                <a:tab algn="l" pos="7000920"/>
                <a:tab algn="l" pos="8400960"/>
                <a:tab algn="l" pos="980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77760" y="1336680"/>
            <a:ext cx="540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UFTIR, main isot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65400" y="1192320"/>
          <a:ext cx="8280360" cy="67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1192320"/>
                    <a:ext cx="8280360" cy="67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05040" y="1336680"/>
            <a:ext cx="316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sults: ClONO</a:t>
            </a:r>
            <a:r>
              <a:rPr b="0" lang="de-DE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409760" y="1224000"/>
          <a:ext cx="8280360" cy="673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224000"/>
                    <a:ext cx="828036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DSC IRWG meeting, Toronto, June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4:16:30Z</dcterms:created>
  <dc:creator>FZK</dc:creator>
  <dc:description/>
  <dc:language>en-US</dc:language>
  <cp:lastModifiedBy>boden</cp:lastModifiedBy>
  <dcterms:modified xsi:type="dcterms:W3CDTF">2005-06-12T22:10:59Z</dcterms:modified>
  <cp:revision>91</cp:revision>
  <dc:subject/>
  <dc:title>Folie 1</dc:title>
</cp:coreProperties>
</file>