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1314113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0AB-6CCE-4764-A972-1693644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24B-3AF1-47C0-B476-72EA5D9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EAA-127B-4E44-919C-F3733582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0824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5128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556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0824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5128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A80-8AB7-45B6-ABC8-AC16309E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5F7-4FC0-466F-8078-900FC349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9AF-EDA0-4D97-8B94-36E8302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E58-9557-4CAA-9431-138E6933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4DC-78D6-4038-B9B3-EA873BA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57160" y="1295280"/>
            <a:ext cx="9601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859-7E6E-4F56-B523-3D282F47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0B0-5235-46E2-9950-739DC3D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C59-C1D1-42FB-AF34-36C220B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139-4097-499F-965A-DF73804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66760" y="266760"/>
            <a:ext cx="10596600" cy="7275600"/>
            <a:chOff x="266760" y="266760"/>
            <a:chExt cx="10596600" cy="7275600"/>
          </a:xfrm>
        </p:grpSpPr>
        <p:sp>
          <p:nvSpPr>
            <p:cNvPr id="1" name=""/>
            <p:cNvSpPr/>
            <p:nvPr/>
          </p:nvSpPr>
          <p:spPr>
            <a:xfrm>
              <a:off x="268200" y="457200"/>
              <a:ext cx="105904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6760" y="1066680"/>
              <a:ext cx="105966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266760"/>
              <a:ext cx="0" cy="148572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1073160"/>
              <a:ext cx="480960" cy="82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3680" y="1073160"/>
              <a:ext cx="81000" cy="48276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120" y="463680"/>
              <a:ext cx="81000" cy="4824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120" y="463680"/>
              <a:ext cx="482760" cy="82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5760" y="7540560"/>
              <a:ext cx="10404360" cy="180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60720" y="466560"/>
              <a:ext cx="476244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schungszentrum Karlsruhe</a:t>
              </a:r>
              <a:br>
                <a:rPr sz="18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 der Helmholtz-Gemeinschaf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469440" y="7524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3137040" y="752436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53040" y="7524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1919-EE2D-4E4E-9FB5-6B1B0A4F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4237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353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414440" indent="-282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979640" indent="-282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760" y="1697040"/>
            <a:ext cx="10691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ror estimation for profiles retrieved from ground-based solar absorption FTIR measurements: PROFFIT Ver 9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F. 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5040" y="3784680"/>
            <a:ext cx="95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ion: Value of NDSC FTIR measurements relies heavily on specification of the quality of data products (trends, validation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error estimation by current profile retrieval codes (SFIT2, PROFFIT9) is poor. Activities to improve the situation underway (S. Wood, error estimation working group), still neither a separate error calculation tool nor an extended error estimation option in the codes available. I try to sound the latter option: PROFFIT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9040" y="1623960"/>
            <a:ext cx="10082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timation of errors due to interfering 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Problem: Error due to interfering species strongly underestim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son: Retrieval strategy minimises impact of interfering species on target, gain matrix maps spectral errors mainly on interfering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we aim at something els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idual spectral features due to interfering species affecting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lution: use modified gain matrix here, allow only fit of target species and aux parms (scale, tilt, shif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2120" y="6378480"/>
                <a:ext cx="957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ag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ies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rge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∂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7760" y="1336680"/>
            <a:ext cx="540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65400" y="1201680"/>
          <a:ext cx="8280360" cy="67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201680"/>
                    <a:ext cx="828036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5040" y="1336680"/>
            <a:ext cx="31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ClON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65400" y="1231920"/>
          <a:ext cx="82818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231920"/>
                    <a:ext cx="82818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5040" y="1336680"/>
            <a:ext cx="68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36680" y="1166760"/>
          <a:ext cx="828216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166760"/>
                    <a:ext cx="828216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7400" y="1984320"/>
            <a:ext cx="1008252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fit Ver. 93 offers extended error calcula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moothing error not included (dangerous concep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ise error typically not the leading err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set, LOS, ILS, tilt, channeling: straightforwar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 error more complicated: perturbation method, pattern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or due to interfering species: use of modified gai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gorous determination of spectroscopic / interfering species error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in EEO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7400" y="1984320"/>
            <a:ext cx="100825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te on Computational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uncation error: can always be reduced to insignifcanc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ed accuracy of matrix inversion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ointed out by A. Wiacek, Uo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of largest to smallest eigenvalue can become quite lar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6960" y="5160960"/>
                <a:ext cx="283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7400" y="1984320"/>
            <a:ext cx="10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un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09760" y="2154240"/>
          <a:ext cx="756108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154240"/>
                    <a:ext cx="756108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7400" y="1984320"/>
            <a:ext cx="100825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utation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d matrix equivalent to additional (unphysical) constraints. Results in coupling between independent components in state vector. Computed solution + averaging kernels refer to total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blem might remain undetected if stable solution is still reach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82960" y="2705040"/>
                <a:ext cx="4619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7400" y="1984320"/>
            <a:ext cx="1008252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e test of computational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 original total cost function! Does reduction of constraint still improve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st critical run found by Aldona in case of PROFFIT: UFTIR 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etrieval (148 elements in state vector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7400" y="1552680"/>
            <a:ext cx="100825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e test of computational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PROFFIT resides well in stable region for UFTIR 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etrieval (constraint could be reduced by another factor 2^10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9760" y="2333520"/>
          <a:ext cx="75610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333520"/>
                    <a:ext cx="7561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3040" y="1839960"/>
            <a:ext cx="10441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 strategic decision: Error estimation option in the retrieval code EEO vs. separate tool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 does not require any extensions in retriev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 can include any error sources difficult to include into retrieval code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rchitecture (e.g. pressure broadening, pressure shif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can not start from the standard radiative transfer output + retrieval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code output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Powerful ST is considerably more complex than the retrieval tool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requires own input, much overlap to original input. Interfac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updating along with the retrieval code (shared input, line mixing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ision: Go for EEO, accept limited capability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697040"/>
            <a:ext cx="10152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outline of error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- Retrieval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correlate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error modifies the spectrum, thereby disturbs the retrieved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in matrix G: sensitivity of retrieval wrt measuremen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xamples: noise, SZA, IL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Co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70120" y="3208320"/>
                <a:ext cx="59767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ε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92320" y="5224320"/>
                <a:ext cx="54054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∂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45040" y="6880320"/>
                <a:ext cx="6553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∂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1407960"/>
            <a:ext cx="10152000" cy="72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oothing error: A chi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rieval does not preserve details of true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: True state and observed state (best estimate of the true state) reside in different spaces! Any true state is projected into an observed state, but no way ba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ing error abets a dangerous misconception: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directly comparable with true state. Conseque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ing error is large, no need to take further errors into accou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comparison of “different” profiles (FTIR-in-situ, gb-satellite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ing incompatible assumptions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: Smoothing error not included! (Not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s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13760" y="1120680"/>
            <a:ext cx="367164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5200" y="2705040"/>
                <a:ext cx="633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85880" y="3208320"/>
                <a:ext cx="3359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oot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49760" y="3208320"/>
                <a:ext cx="2592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oot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697040"/>
            <a:ext cx="979164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or sources taken into account by PROFFIT v 9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set in spectrum zero 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LS (modulation + ph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lt (for each M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neling (4 frequencies, cos + sin 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troscopic errors / interfering species (intensity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(concept of T-patter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e: retrieval + reporting in altitude domain! – Hydrostati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quilibrium needs readjustment. Analytical handling difficul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refore retrieval is repeated for each T-pattern. Expensi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alculation of absorption coeffs, but no T deriv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79600"/>
            <a:ext cx="979164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inte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FIT switches to extended error mode if additional input file “errcalc.inp” is found in path. Required additional input given ther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Target species for error calculation :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Channeling frequencies (4 frequencies, cm-1): 0.005  0.2  1.0 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for:  Offset (nW/(cm**2 sterad cm-1)   LOS (rad)   ILSmod  (-)   ILSphas (rad): 1500.0  0.0015  0.04 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for Tilt per MW  (cm): 0.005  0.005  0.005 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channeling (cos + sin): 0.002 0.002 0.002 0.002 0.002 0.002 0.002 0.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interfering species (-): 0.02 0.02 0.0 0.01 0.01 0.01 0.01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Number of T-pattern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T-patterns (nlevels x nTpatter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 …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** Number of partial columns: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** for each partial column: level contribution (nlevels x nPartialColum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3400" y="1768320"/>
            <a:ext cx="979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4840" y="1295280"/>
            <a:ext cx="1018548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FFIT93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kobians for error parms (offset, LOS, ILS, channel, tilt, sp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error patterns for each parm (LOS: single patter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neling: 2 x NMWs x NChans, spectroscopy / interfer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es NMWs x NSpezies, temperature NTpatt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covariance due to all error parms (incl. noise co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or pattern groups: Gaussian summation of all patterns of the same kind (+ Grouping / Gaussian summation of different kinds of err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al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: Zero baseline offset, LOS, 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: Channeling + t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: Spectroscopy / interfer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: All T-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: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: Sqrt(Diagonal) of full co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covariance for partial columns + sensi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7760" y="1336680"/>
            <a:ext cx="540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65400" y="1192320"/>
          <a:ext cx="828036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192320"/>
                    <a:ext cx="828036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5040" y="1336680"/>
            <a:ext cx="31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ClON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09760" y="1224000"/>
          <a:ext cx="8280360" cy="67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224000"/>
                    <a:ext cx="828036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4:16:30Z</dcterms:created>
  <dc:creator>FZK</dc:creator>
  <dc:description/>
  <dc:language>en-US</dc:language>
  <cp:lastModifiedBy>boden</cp:lastModifiedBy>
  <dcterms:modified xsi:type="dcterms:W3CDTF">2005-06-12T22:10:59Z</dcterms:modified>
  <cp:revision>91</cp:revision>
  <dc:subject/>
  <dc:title>Folie 1</dc:title>
</cp:coreProperties>
</file>