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45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3886200" y="868644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fld id="{1CC96174-80E6-455E-958A-1E51C371D50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fld id="{907E1129-CD7F-4B0B-9E0D-342BD634D75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fld id="{C0C9C8FB-4D09-4A58-B30E-C02C7D8D8C6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fld id="{9C1978EF-3C6C-4C02-B450-56A393F1ED6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fld id="{E1110797-C632-4C5D-B98B-9B51032D892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fld id="{9FE43D50-7984-46A7-BE74-6AE5288B724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fld id="{D6EA06D6-6CD5-4EC2-B177-6BAB643A1EC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fld id="{026F8367-642D-4C1C-8493-443FA490909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>
            <a:off x="3886200" y="868680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fld id="{0A2AC16B-F91A-4FEC-A0BE-F0CB82B707B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2E00F-A621-4071-AA99-5D137343B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EC157-835B-413C-826C-38B97492B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8509-1E90-4DE4-8E0E-C65DDC0AF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17E5-E3E2-4DE8-99A1-99FABB127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EC5DB-2656-40B4-B69B-04F5E38652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70CC0-D402-4EF8-BE40-9A115558D3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A46BD-2AE4-40C7-B036-E153ED7342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078C8-414C-456D-8038-19B16CF473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62E0D-17A7-4257-B5FE-464670EA99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7677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25D59-FF8E-49E4-B920-53172EF91D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069AB-3D7B-4DD2-91E5-68C6F71140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1C53-DED6-4006-B77E-9D491AE03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423CD-64C5-45F3-9DEA-43E34B1C53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2C5FB-513E-426D-BA1E-37E480B139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18C19-2305-4386-B807-61E8B779DA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75BA0-FF87-4056-903B-66C793E5DA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9D85B-A171-4E09-A790-8A762E55DA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D574-0515-453B-96E4-F1FA198D5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CDD1C-0D74-44E4-8703-E047E66F6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E6A1-71E8-4542-A48F-A8F0741DC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7677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963C-ECDA-4E41-9C6E-3169A7D76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7B3D-BA39-4053-BE12-385C9BB19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EC01-E5B6-4F96-9FCA-646F2069B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1003-F709-4299-868F-964DBAF2E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989D9-D307-43F9-B59F-1324EDBBEA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488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buNone/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fld id="{5D2AF3DB-D0D3-4F0B-A7C0-569CE7B663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19200" y="1380960"/>
            <a:ext cx="7772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TE 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versität Bre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3095640" y="4010040"/>
            <a:ext cx="2876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hias Pal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hristof Pet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orsten Warne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tus Notho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3017880" y="1806480"/>
            <a:ext cx="7429320" cy="560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-1506600" y="-365040"/>
            <a:ext cx="7634520" cy="57546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4846680" y="274680"/>
            <a:ext cx="3495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TIR sites operated by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Bre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57200" y="5578560"/>
            <a:ext cx="4189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DACC/TCC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66b3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0066b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b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b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66b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b3"/>
                </a:solidFill>
                <a:latin typeface="Times New Roman"/>
              </a:rPr>
              <a:t>TCCON on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4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47680" y="1592280"/>
          <a:ext cx="8690040" cy="2909880"/>
        </p:xfrm>
        <a:graphic>
          <a:graphicData uri="http://schemas.openxmlformats.org/drawingml/2006/table">
            <a:tbl>
              <a:tblPr/>
              <a:tblGrid>
                <a:gridCol w="3013200"/>
                <a:gridCol w="1450800"/>
                <a:gridCol w="1461960"/>
                <a:gridCol w="1597320"/>
                <a:gridCol w="1166760"/>
              </a:tblGrid>
              <a:tr h="668160">
                <a:tc>
                  <a:txBody>
                    <a:bodyPr lIns="90000" rIns="90000" tIns="110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Ny Alesu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Bre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Paramari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Pala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68520"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Days of measure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51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06480"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Last year of submissions to NDACC Database 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2017 (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2017 (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2017 (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No submis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66720"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Data used in publications 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10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10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00" name="Text Box 72"/>
          <p:cNvSpPr/>
          <p:nvPr/>
        </p:nvSpPr>
        <p:spPr>
          <a:xfrm>
            <a:off x="274680" y="4572000"/>
            <a:ext cx="4927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) All measurements in 2016 and 10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) Numbers in brackets are the gases submitted in 20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87720"/>
            <a:ext cx="96012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Cl measurements in Suri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44228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1520" y="9216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CS/N2O ratio over Pala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1100160"/>
            <a:ext cx="5394240" cy="41115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274680" y="5194440"/>
            <a:ext cx="8686800" cy="27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strument is equipped with an INSB cooled with a Stirling mo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erling cooling failed in early 2017 and is since being repai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394240" y="1279440"/>
            <a:ext cx="38512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lau is in the Pacifi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mpo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pospheric trace ga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reach the stratosphe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reg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igh OCS/N2O rat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s a high value of O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troposp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38080" y="92160"/>
            <a:ext cx="7770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arstern campa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”around Svalbard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"/>
          <p:cNvSpPr/>
          <p:nvPr/>
        </p:nvSpPr>
        <p:spPr>
          <a:xfrm flipH="1" flipV="1">
            <a:off x="5849640" y="3016080"/>
            <a:ext cx="137484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 rot="13680000">
            <a:off x="5493600" y="3568320"/>
            <a:ext cx="2077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TIR contai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560680" y="2928960"/>
            <a:ext cx="6400800" cy="5025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rcRect l="-26537" t="-29365" r="6322" b="17586"/>
          <a:stretch/>
        </p:blipFill>
        <p:spPr>
          <a:xfrm>
            <a:off x="2563920" y="1565280"/>
            <a:ext cx="6419880" cy="2905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-101520" y="-90360"/>
            <a:ext cx="2662200" cy="699912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 flipV="1">
            <a:off x="5851440" y="3016080"/>
            <a:ext cx="185760" cy="1649520"/>
          </a:xfrm>
          <a:prstGeom prst="line">
            <a:avLst/>
          </a:prstGeom>
          <a:ln w="91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65040" y="3382920"/>
            <a:ext cx="808848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stern crui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m: variation of tropospheric trace gases and clou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arallel absorption and emission measurements using FTIR spectromet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914400" y="139680"/>
            <a:ext cx="7172280" cy="3060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4978440" y="355680"/>
            <a:ext cx="31748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sion lin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, CH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4"/>
          <p:cNvSpPr/>
          <p:nvPr/>
        </p:nvSpPr>
        <p:spPr>
          <a:xfrm flipH="1">
            <a:off x="3290760" y="1006560"/>
            <a:ext cx="1689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5851440" y="1189080"/>
            <a:ext cx="92160" cy="82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7132680" y="1189080"/>
            <a:ext cx="639720" cy="12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7772400" y="1279440"/>
            <a:ext cx="144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 flipH="1">
            <a:off x="6489360" y="1189080"/>
            <a:ext cx="9540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9"/>
          <p:cNvSpPr/>
          <p:nvPr/>
        </p:nvSpPr>
        <p:spPr>
          <a:xfrm flipH="1">
            <a:off x="4387680" y="1189080"/>
            <a:ext cx="219744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685800" y="-162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blications 2016/1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247680" y="915840"/>
            <a:ext cx="871380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spcAft>
                <a:spcPts val="150"/>
              </a:spcAft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760" indent="-212760" algn="just">
              <a:spcAft>
                <a:spcPts val="150"/>
              </a:spcAft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760" indent="-212760" algn="just">
              <a:spcAft>
                <a:spcPts val="150"/>
              </a:spcAft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760" indent="-212760" algn="just">
              <a:spcAft>
                <a:spcPts val="150"/>
              </a:spcAft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760" indent="-212760" algn="just">
              <a:spcAft>
                <a:spcPts val="150"/>
              </a:spcAft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2160" y="1243080"/>
            <a:ext cx="8778960" cy="68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thlott, S. et.al. .Tropospheric water vapour isotopologue data (H216O, H218O, and HD16O) as obtained from NDACC/FTIR solar absorption spectra Earth System Science Data, 2017, 9, 15-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chmann, M. et.al. The arctic seasonal cycle of total column CO2 and CH4 from ground-based solar and lunar FTIR absorption spectrometry Atmospheric Measurement Techniques, 10 (7), pp. 2397-2411, 20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chmann, M. et.al. Retrieval of xCO(2) from ground-based mid-infrared (NDACC) solar absorption spectra and comparison to TCCON ATMOSPHERIC MEASUREMENT TECHNIQUES, 2016, Vol. 9(2), pp. 577-585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mmers, E. et. al. Validation of the CrIS fast physical NH3 retrieval with ground-based FTIR Atmospheric Measurement Techniques, 10 (7), pp. 2645-2667 20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mmers, E., et.al. An evaluation of IASI-NH3 with ground-based Fourier transform infrared spectroscopy measurements ATMOSPHERIC CHEMISTRY AND PHYSICS, 2016, Vol. 16(16), pp. 10351-1036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n, Y. et.al. Technical note: Sensitivity of instrumental line shape monitoring for the ground-based high-resolution FTIR spectrometer with\newline respect to different optical attenuators Atmospheric Measurement Techniques, 10, 989-997, 20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ng, Y., et.al. Towards understanding the variability in biospheric CO2 fluxes: using FTIR spectrometry and a chemical transport model to investigate the sources and sinks of carbonyl sulfide and its link to CO2 ATMOSPHERIC CHEMISTRY AND PHYSICS, 2016, Vol. 16(4), pp. 2123-2138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76040" y="1843200"/>
            <a:ext cx="9296640" cy="16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627200" y="1917720"/>
            <a:ext cx="639432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08:39:53Z</dcterms:created>
  <dc:creator>Thorsten Warneke</dc:creator>
  <dc:description/>
  <dc:language>en-US</dc:language>
  <cp:lastModifiedBy>warneke</cp:lastModifiedBy>
  <dcterms:modified xsi:type="dcterms:W3CDTF">2018-06-13T21:35:04Z</dcterms:modified>
  <cp:revision>298</cp:revision>
  <dc:subject/>
  <dc:title>PowerPoint-Präsentation</dc:title>
</cp:coreProperties>
</file>