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691813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73EA-1090-4F2F-B91B-1E8FEAC7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0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600" y="4057920"/>
            <a:ext cx="9620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2E28-F6F7-4151-ABC2-0A814A61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4057920"/>
            <a:ext cx="4694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4080" y="4057920"/>
            <a:ext cx="4694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2D34-A15A-47E1-B79A-6FAD5DFB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3097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7200" y="1768320"/>
            <a:ext cx="3097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0160" y="1768320"/>
            <a:ext cx="3097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600" y="4057920"/>
            <a:ext cx="3097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7200" y="4057920"/>
            <a:ext cx="3097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0160" y="4057920"/>
            <a:ext cx="3097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274F-B4DE-44B3-85A7-3B55E867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600" y="1768320"/>
            <a:ext cx="96202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D695-8548-4C42-8E72-CC0E8B7C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02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C8C7-0CA0-48BE-8199-944BF56C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A454-1D5E-46FC-8639-6295117C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9816-8F8B-4C04-9024-B9058974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02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07BE-40D6-40F4-A698-1A2E8637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600" y="4057920"/>
            <a:ext cx="4694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45A0-96FF-4935-B05D-4891D3A4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4080" y="4057920"/>
            <a:ext cx="4694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7A5-B189-4D29-BCB8-AC409853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600" y="4057920"/>
            <a:ext cx="9620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49C4-5AA9-4178-9ACF-E1CC01D0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600" y="1768320"/>
            <a:ext cx="96202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600" y="6886440"/>
            <a:ext cx="2489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6160" y="6886440"/>
            <a:ext cx="3387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6200" y="6886440"/>
            <a:ext cx="2489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E4293-51D3-47CE-8E63-A74AB2285E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06720" y="187200"/>
            <a:ext cx="56023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2160" y="777960"/>
            <a:ext cx="10515600" cy="1440"/>
          </a:xfrm>
          <a:prstGeom prst="line">
            <a:avLst/>
          </a:prstGeom>
          <a:ln w="18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2160" y="1790640"/>
          <a:ext cx="10516680" cy="4470120"/>
        </p:xfrm>
        <a:graphic>
          <a:graphicData uri="http://schemas.openxmlformats.org/drawingml/2006/table">
            <a:tbl>
              <a:tblPr/>
              <a:tblGrid>
                <a:gridCol w="1314360"/>
                <a:gridCol w="1314360"/>
                <a:gridCol w="1200600"/>
                <a:gridCol w="1123920"/>
                <a:gridCol w="1140120"/>
                <a:gridCol w="1763640"/>
                <a:gridCol w="1342080"/>
                <a:gridCol w="1317600"/>
              </a:tblGrid>
              <a:tr h="109692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g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smoo&gt;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rand&gt;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syst&gt;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RMS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DOFS&gt;/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DOFS_trp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XCO2&gt;, ppmv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Daily variab.&gt;, ppmv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64512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0_F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0.1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1.4±0.2/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40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653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880+3300_F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1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9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.33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2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±0.2/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9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1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Noto Sans CJK SC Regular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3200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0_F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.2/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40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653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80_F1_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5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1.4±0.02/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6536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80_F1_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.1/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1680" y="844560"/>
            <a:ext cx="7196040" cy="3227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01680" y="4275000"/>
            <a:ext cx="7196040" cy="3227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93680" y="2583000"/>
            <a:ext cx="33656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.Petersbur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Bremen  r=0.88, bias= 8.8</a:t>
            </a:r>
            <a:r>
              <a:rPr b="1" lang="en-US" sz="1800" spc="-1" strike="noStrike">
                <a:solidFill>
                  <a:srgbClr val="9900ff"/>
                </a:solidFill>
                <a:latin typeface="Arial"/>
                <a:ea typeface="Arial"/>
              </a:rPr>
              <a:t>±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9999"/>
                </a:solidFill>
                <a:latin typeface="Arial"/>
              </a:rPr>
              <a:t>Bialystok  0.86,  8.2</a:t>
            </a:r>
            <a:r>
              <a:rPr b="1" lang="en-US" sz="1800" spc="-1" strike="noStrike">
                <a:solidFill>
                  <a:srgbClr val="ff9999"/>
                </a:solidFill>
                <a:latin typeface="Arial"/>
                <a:ea typeface="Arial"/>
              </a:rPr>
              <a:t>±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Sodankyla  0.84, 9.2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±1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63880" y="122400"/>
            <a:ext cx="749772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ISONS WITH TCCON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160" y="741240"/>
            <a:ext cx="10515600" cy="1800"/>
          </a:xfrm>
          <a:prstGeom prst="line">
            <a:avLst/>
          </a:prstGeom>
          <a:ln w="18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32280" y="4371840"/>
            <a:ext cx="3441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.Petersbur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Bremen  r=0.87, bias= -3.1</a:t>
            </a:r>
            <a:r>
              <a:rPr b="1" lang="en-US" sz="1800" spc="-1" strike="noStrike">
                <a:solidFill>
                  <a:srgbClr val="9900ff"/>
                </a:solidFill>
                <a:latin typeface="Arial"/>
                <a:ea typeface="Arial"/>
              </a:rPr>
              <a:t>±1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9999"/>
                </a:solidFill>
                <a:latin typeface="Arial"/>
              </a:rPr>
              <a:t>Bialystok  0.64,  -3.2</a:t>
            </a:r>
            <a:r>
              <a:rPr b="1" lang="en-US" sz="1800" spc="-1" strike="noStrike">
                <a:solidFill>
                  <a:srgbClr val="ff9999"/>
                </a:solidFill>
                <a:latin typeface="Arial"/>
                <a:ea typeface="Arial"/>
              </a:rPr>
              <a:t>±2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Sodankyla  0.86, -2.7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±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40320" y="6637320"/>
            <a:ext cx="2068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880+3300_F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864560" y="770040"/>
            <a:ext cx="2436840" cy="1798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864560" y="2422440"/>
            <a:ext cx="2452680" cy="1809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424320" y="4000680"/>
            <a:ext cx="14097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 of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24600" y="1028880"/>
            <a:ext cx="12841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600_F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686800" y="843120"/>
            <a:ext cx="1527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P-</a:t>
            </a:r>
            <a:r>
              <a:rPr b="0" lang="en-US" sz="1800" spc="-1" strike="noStrike">
                <a:solidFill>
                  <a:srgbClr val="ff6666"/>
                </a:solidFill>
                <a:latin typeface="Arial"/>
              </a:rPr>
              <a:t>B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86800" y="2462040"/>
            <a:ext cx="160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P-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7896240" y="4084560"/>
            <a:ext cx="2433600" cy="1795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7951680" y="5749920"/>
            <a:ext cx="2379600" cy="1757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218440" y="4118040"/>
            <a:ext cx="21668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P-</a:t>
            </a:r>
            <a:r>
              <a:rPr b="0" lang="en-US" sz="1800" spc="-1" strike="noStrike">
                <a:solidFill>
                  <a:srgbClr val="ff6666"/>
                </a:solidFill>
                <a:latin typeface="Arial"/>
              </a:rPr>
              <a:t>B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4880+3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147160" y="6889680"/>
            <a:ext cx="22431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P-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4880+3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137440" y="5227560"/>
            <a:ext cx="14731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137440" y="1916280"/>
            <a:ext cx="1473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01920" y="1008000"/>
            <a:ext cx="1525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aily m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01920" y="4429080"/>
            <a:ext cx="1525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aily m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063880" y="123840"/>
            <a:ext cx="74977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ISONS WITH TCCON SITES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2160" y="741240"/>
            <a:ext cx="10515600" cy="1800"/>
          </a:xfrm>
          <a:prstGeom prst="line">
            <a:avLst/>
          </a:prstGeom>
          <a:ln w="18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9600" y="825480"/>
            <a:ext cx="7196040" cy="3227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14280" y="4270320"/>
            <a:ext cx="7196040" cy="3227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460680" y="3963960"/>
            <a:ext cx="14097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 of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58760" y="2583000"/>
            <a:ext cx="33656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.Petersbur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Bremen  r=0.82, bias= 2.6</a:t>
            </a:r>
            <a:r>
              <a:rPr b="1" lang="en-US" sz="1800" spc="-1" strike="noStrike">
                <a:solidFill>
                  <a:srgbClr val="9900ff"/>
                </a:solidFill>
                <a:latin typeface="Arial"/>
                <a:ea typeface="Arial"/>
              </a:rPr>
              <a:t>±1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9999"/>
                </a:solidFill>
                <a:latin typeface="Arial"/>
              </a:rPr>
              <a:t>Bialystok  0.57,  2.3</a:t>
            </a:r>
            <a:r>
              <a:rPr b="1" lang="en-US" sz="1800" spc="-1" strike="noStrike">
                <a:solidFill>
                  <a:srgbClr val="ff9999"/>
                </a:solidFill>
                <a:latin typeface="Arial"/>
                <a:ea typeface="Arial"/>
              </a:rPr>
              <a:t>±2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Sodankyla  0.79, 1.9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±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8760" y="6002280"/>
            <a:ext cx="34419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.Petersbur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Bremen  r=0.79, bias= -0.8</a:t>
            </a:r>
            <a:r>
              <a:rPr b="1" lang="en-US" sz="1800" spc="-1" strike="noStrike">
                <a:solidFill>
                  <a:srgbClr val="9900ff"/>
                </a:solidFill>
                <a:latin typeface="Arial"/>
                <a:ea typeface="Arial"/>
              </a:rPr>
              <a:t>±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9999"/>
                </a:solidFill>
                <a:latin typeface="Arial"/>
              </a:rPr>
              <a:t>Bialystok  0.63,  -0.7</a:t>
            </a:r>
            <a:r>
              <a:rPr b="1" lang="en-US" sz="1800" spc="-1" strike="noStrike">
                <a:solidFill>
                  <a:srgbClr val="ff9999"/>
                </a:solidFill>
                <a:latin typeface="Arial"/>
                <a:ea typeface="Arial"/>
              </a:rPr>
              <a:t>±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Sodankyla  0.85, -0.5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±2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89680" y="1028880"/>
            <a:ext cx="12841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300_F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71920" y="4389480"/>
            <a:ext cx="2889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880_F2_OPD=18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01920" y="973080"/>
            <a:ext cx="1525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aily m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01920" y="4429080"/>
            <a:ext cx="1525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aily m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732800" y="4156200"/>
            <a:ext cx="2398680" cy="1769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680240" y="5767560"/>
            <a:ext cx="2468520" cy="1828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8218440" y="4191120"/>
            <a:ext cx="1527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P-</a:t>
            </a:r>
            <a:r>
              <a:rPr b="0" lang="en-US" sz="1800" spc="-1" strike="noStrike">
                <a:solidFill>
                  <a:srgbClr val="ff6666"/>
                </a:solidFill>
                <a:latin typeface="Arial"/>
              </a:rPr>
              <a:t>B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48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147160" y="6926400"/>
            <a:ext cx="160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P-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48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7658280" y="754200"/>
            <a:ext cx="2468520" cy="1822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7731000" y="2448000"/>
            <a:ext cx="2400480" cy="1771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110440" y="3578400"/>
            <a:ext cx="160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P-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74080" y="770040"/>
            <a:ext cx="160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P-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94520" y="1952640"/>
            <a:ext cx="14734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994520" y="5335560"/>
            <a:ext cx="14734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2160" y="704880"/>
            <a:ext cx="10515600" cy="1440"/>
          </a:xfrm>
          <a:prstGeom prst="line">
            <a:avLst/>
          </a:prstGeom>
          <a:ln w="18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06720" y="189000"/>
            <a:ext cx="56023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2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47640" y="728640"/>
            <a:ext cx="4038840" cy="3408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176640" y="3222720"/>
            <a:ext cx="12841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600_F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504040" y="735120"/>
            <a:ext cx="4006800" cy="3382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426440" y="3278160"/>
            <a:ext cx="2068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300+4880_F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95160" y="4140360"/>
            <a:ext cx="4023000" cy="3395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218040" y="6608880"/>
            <a:ext cx="12841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300_F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5505480" y="4118040"/>
            <a:ext cx="4064040" cy="34304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826400" y="6681960"/>
            <a:ext cx="2889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880_F2_OPD=18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2160" y="704880"/>
            <a:ext cx="10515600" cy="1440"/>
          </a:xfrm>
          <a:prstGeom prst="line">
            <a:avLst/>
          </a:prstGeom>
          <a:ln w="18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06720" y="189000"/>
            <a:ext cx="56023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520" y="988920"/>
            <a:ext cx="10509120" cy="67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optimal strategy for CO2 TC retrievals for St. Petersburg site  is  2600  (F2 filter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. Barthlott   et al. AMT, 2015)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ith tropospheric DOFS =0.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ain issue with 4880 strategy: for St. Petersburg site we have a limitaion in SNRs for 3100-5000 cm-1 – payment for broadband filter F1 + KBr beamsplit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evertheless, first results obtained for 4800 cm-1 band seem to be optimistic -  further study is need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M27/SUN spectrometer kindly provided by KIT is starting its operation during this summer (I hope!) – great opportunity to compare our CO2 results with COCC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2160" y="704880"/>
            <a:ext cx="10515600" cy="1440"/>
          </a:xfrm>
          <a:prstGeom prst="line">
            <a:avLst/>
          </a:prstGeom>
          <a:ln w="18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22720" y="189000"/>
            <a:ext cx="56023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7160" y="1920960"/>
            <a:ext cx="1028844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ny thanks to colleagues from TCC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ustus Notholt and Thorsten Warneke  - for CO2 data from Bialystok and Bremen sit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gel Kivi -  for CO2 data from Sodanky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906720" y="189000"/>
            <a:ext cx="56023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2160" y="777960"/>
            <a:ext cx="10515600" cy="1440"/>
          </a:xfrm>
          <a:prstGeom prst="line">
            <a:avLst/>
          </a:prstGeom>
          <a:ln w="18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92160" y="855720"/>
          <a:ext cx="10516680" cy="6678360"/>
        </p:xfrm>
        <a:graphic>
          <a:graphicData uri="http://schemas.openxmlformats.org/drawingml/2006/table">
            <a:tbl>
              <a:tblPr/>
              <a:tblGrid>
                <a:gridCol w="1314360"/>
                <a:gridCol w="1314360"/>
                <a:gridCol w="1200600"/>
                <a:gridCol w="1123920"/>
                <a:gridCol w="1140120"/>
                <a:gridCol w="1763640"/>
                <a:gridCol w="1342080"/>
                <a:gridCol w="1317600"/>
              </a:tblGrid>
              <a:tr h="109692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g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smoo&gt;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rand&gt;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syst&gt;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RMS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DOFS&gt;/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DOFS_trp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XCO2&gt;, ppmv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Daily variab.&gt;, ppmv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6447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0_F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0.1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1.4±0.2/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40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653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880+3300_F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1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9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.33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2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±0.2/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9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1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Noto Sans CJK SC Regular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3200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0_F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.2/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40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653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80_F1_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5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1.4±0.02/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6536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80_F1_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.1/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4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100_3300_F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.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.8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  <a:ea typeface="Noto Sans CJK SC Regular"/>
                        </a:rPr>
                        <a:t>0.3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  <a:ea typeface="Noto Sans CJK SC Regular"/>
                        </a:rPr>
                        <a:t>1.8±0.2/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  <a:ea typeface="Noto Sans CJK SC Regular"/>
                        </a:rPr>
                        <a:t>39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.9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  <a:ea typeface="Noto Sans CJK SC Regular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917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600_3100_3300_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.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.7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  <a:ea typeface="Noto Sans CJK SC Regular"/>
                        </a:rPr>
                        <a:t>0.3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  <a:ea typeface="Noto Sans CJK SC Regular"/>
                        </a:rPr>
                        <a:t>1.7±0.2/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9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.9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  <a:ea typeface="Noto Sans CJK SC Regular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62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100_F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.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7.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  <a:ea typeface="Noto Sans CJK SC Regular"/>
                        </a:rPr>
                        <a:t>0.1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  <a:ea typeface="Noto Sans CJK SC Regular"/>
                        </a:rPr>
                        <a:t>1.1±0.1/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  <a:ea typeface="Noto Sans CJK SC Regular"/>
                        </a:rPr>
                        <a:t>39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.2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  <a:ea typeface="Noto Sans CJK SC Regular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54120" y="1171440"/>
            <a:ext cx="73184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  on  CO2  exerci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2240" y="2743200"/>
            <a:ext cx="89614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ia Makarov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inne Vigouroux, Anatoly Poberovskiy, Hamud Imha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78560" y="4664160"/>
            <a:ext cx="4352760" cy="244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456240" y="5340240"/>
            <a:ext cx="639720" cy="639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78560" y="5943600"/>
            <a:ext cx="639720" cy="639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229360" y="4764240"/>
            <a:ext cx="1764720" cy="1469880"/>
            <a:chOff x="5229360" y="4764240"/>
            <a:chExt cx="1764720" cy="1469880"/>
          </a:xfrm>
        </p:grpSpPr>
        <p:sp>
          <p:nvSpPr>
            <p:cNvPr id="47" name=""/>
            <p:cNvSpPr/>
            <p:nvPr/>
          </p:nvSpPr>
          <p:spPr>
            <a:xfrm>
              <a:off x="5229360" y="5519880"/>
              <a:ext cx="6134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42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4400" spc="-1" strike="noStrike">
                  <a:solidFill>
                    <a:srgbClr val="729fcf"/>
                  </a:solidFill>
                  <a:latin typeface="Arial"/>
                </a:rPr>
                <a:t>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380280" y="4764240"/>
              <a:ext cx="6138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42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4400" spc="-1" strike="noStrike">
                  <a:solidFill>
                    <a:srgbClr val="729fcf"/>
                  </a:solidFill>
                  <a:latin typeface="Arial"/>
                </a:rPr>
                <a:t>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804640" y="5160960"/>
              <a:ext cx="5439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06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5752440" y="5592600"/>
              <a:ext cx="180720" cy="184320"/>
            </a:xfrm>
            <a:prstGeom prst="line">
              <a:avLst/>
            </a:prstGeom>
            <a:ln w="54720">
              <a:solidFill>
                <a:srgbClr val="729f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6255360" y="5197320"/>
              <a:ext cx="180360" cy="184320"/>
            </a:xfrm>
            <a:prstGeom prst="line">
              <a:avLst/>
            </a:prstGeom>
            <a:ln w="54720">
              <a:solidFill>
                <a:srgbClr val="729f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73280" y="1392120"/>
            <a:ext cx="875808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to get more information on tropospheric CO2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to retrieve CO2 profile (i.e. DOF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2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to find optimal strategy of CO2 TC retrieval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r St. Petersburg sit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to test most promissing strategies for some of IRW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ites (BIRA sites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tudy was initiated by Corinne (thanks!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97320" y="204840"/>
            <a:ext cx="2352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2160" y="731880"/>
            <a:ext cx="10515600" cy="1440"/>
          </a:xfrm>
          <a:prstGeom prst="line">
            <a:avLst/>
          </a:prstGeom>
          <a:ln w="18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297320" y="209520"/>
            <a:ext cx="1341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2160" y="736560"/>
            <a:ext cx="10515600" cy="1800"/>
          </a:xfrm>
          <a:prstGeom prst="line">
            <a:avLst/>
          </a:prstGeom>
          <a:ln w="18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8560" y="1219320"/>
            <a:ext cx="9510840" cy="59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to learn  more (papers) on CO2 retrievals with the focu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on  IRWG strategi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to seek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ew perspective spectral region/mw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to make retrievals using published and new strategies,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d their combinations (test period is 2015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to compare our results with CO2 data acquired at th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earest  TCCON si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24200" y="182520"/>
            <a:ext cx="5715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2   RETRIEVAL  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2160" y="736560"/>
            <a:ext cx="10515600" cy="1800"/>
          </a:xfrm>
          <a:prstGeom prst="line">
            <a:avLst/>
          </a:prstGeom>
          <a:ln w="18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5840" y="934920"/>
            <a:ext cx="110649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tical filters for InSb detector: standard IRWG set and St. Petersburg site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2440" y="1720800"/>
            <a:ext cx="8744040" cy="5665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4480" y="2560680"/>
            <a:ext cx="33256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S. Barthlott et al. AMT,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4mws in 2620.55 – 2629.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2600”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49600" y="1504800"/>
            <a:ext cx="541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M. Buschmann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AMT,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2mws in 3160.14 – 3161.80 - 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“3100”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2mws in 3315.5 – 3344.94  - 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“3300”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945640" y="5851440"/>
            <a:ext cx="92160" cy="731880"/>
          </a:xfrm>
          <a:custGeom>
            <a:avLst/>
            <a:gdLst>
              <a:gd name="textAreaLeft" fmla="*/ 0 w 92160"/>
              <a:gd name="textAreaRight" fmla="*/ 33120 w 92160"/>
              <a:gd name="textAreaTop" fmla="*/ 19080 h 731880"/>
              <a:gd name="textAreaBottom" fmla="*/ 712800 h 73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999640" y="5691240"/>
            <a:ext cx="171756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.Peter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of broadband fil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02480" y="3602160"/>
            <a:ext cx="182520" cy="1371600"/>
          </a:xfrm>
          <a:custGeom>
            <a:avLst/>
            <a:gdLst>
              <a:gd name="textAreaLeft" fmla="*/ 0 w 182520"/>
              <a:gd name="textAreaRight" fmla="*/ 65880 w 1825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83640" y="3998880"/>
            <a:ext cx="171756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WG set of fil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64560" y="5580000"/>
            <a:ext cx="5061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87480" y="5761080"/>
            <a:ext cx="5065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99120" y="3349800"/>
            <a:ext cx="4921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#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59480" y="3565440"/>
            <a:ext cx="4921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29480" y="4168800"/>
            <a:ext cx="661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#1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95840" y="4070520"/>
            <a:ext cx="4921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71840" y="4321080"/>
            <a:ext cx="4921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92200" y="4573440"/>
            <a:ext cx="4921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05600" y="2765520"/>
            <a:ext cx="33465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esent stud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4884.9 – 4888.4 -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“4880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436920" y="182520"/>
            <a:ext cx="5715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RIEVAL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2160" y="736560"/>
            <a:ext cx="10515600" cy="1800"/>
          </a:xfrm>
          <a:prstGeom prst="line">
            <a:avLst/>
          </a:prstGeom>
          <a:ln w="18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2520" y="1506600"/>
          <a:ext cx="9954720" cy="4408200"/>
        </p:xfrm>
        <a:graphic>
          <a:graphicData uri="http://schemas.openxmlformats.org/drawingml/2006/table">
            <a:tbl>
              <a:tblPr/>
              <a:tblGrid>
                <a:gridCol w="1641240"/>
                <a:gridCol w="2348280"/>
                <a:gridCol w="1646640"/>
                <a:gridCol w="4318560"/>
              </a:tblGrid>
              <a:tr h="73620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strateg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ieved speci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. type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 and a priori inform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115200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2, H2O, HDO, CH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rowSpan="4"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 L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R=200 (for retrieval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rowSpan="4"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tral databases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2 and etc. - HITRAN2008, H2O, HDO – HITRAN2009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riori gas profles - WACCM v.6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T profiles – NCEP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3620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2, H2O, O3, CH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2, H2O, C2H2, N2O, HC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20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2, O13CO, CO18O, CH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219240" y="6861240"/>
            <a:ext cx="104724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XCO2 calculations we use atmospheric pressure value measured by precise barometer while spectrum is acquired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5040" y="933480"/>
            <a:ext cx="24177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 period - 20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906720" y="187200"/>
            <a:ext cx="42973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2   TC   AV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2160" y="741240"/>
            <a:ext cx="10515600" cy="1800"/>
          </a:xfrm>
          <a:prstGeom prst="line">
            <a:avLst/>
          </a:prstGeom>
          <a:ln w="18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2680" y="1463760"/>
            <a:ext cx="4646520" cy="5873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73720" y="2039760"/>
            <a:ext cx="4684680" cy="532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-15840" y="934920"/>
            <a:ext cx="1106496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published CO2 retrieval strategies and their combina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ensitivity has max in the strat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OFS 1.0 – 1.8 (DOFS_trp 0.4 – 0.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27240" y="2873520"/>
            <a:ext cx="5349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84320" y="2873520"/>
            <a:ext cx="5349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666666"/>
                </a:solidFill>
                <a:latin typeface="Arial"/>
              </a:rPr>
              <a:t>1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51240" y="2873520"/>
            <a:ext cx="5349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38880" y="2873520"/>
            <a:ext cx="5349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666666"/>
                </a:solidFill>
                <a:latin typeface="Arial"/>
              </a:rPr>
              <a:t>1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38880" y="3270240"/>
            <a:ext cx="5349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06720" y="187200"/>
            <a:ext cx="42973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2160" y="741240"/>
            <a:ext cx="10515600" cy="1800"/>
          </a:xfrm>
          <a:prstGeom prst="line">
            <a:avLst/>
          </a:prstGeom>
          <a:ln w="18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741920" y="4083120"/>
            <a:ext cx="5968800" cy="3476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" y="871560"/>
            <a:ext cx="3519360" cy="3040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475080" y="852480"/>
            <a:ext cx="3541680" cy="3060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039080" y="852480"/>
            <a:ext cx="3541680" cy="3060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4960" y="1609560"/>
            <a:ext cx="18273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00_F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FS_trp = 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35320" y="1646280"/>
            <a:ext cx="1827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00_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FS_trp =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8040" y="1790640"/>
            <a:ext cx="1827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00_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FS_trp =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96160" y="6218280"/>
            <a:ext cx="2610000" cy="60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880_F1  OPD=18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FS_trp = 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572000"/>
            <a:ext cx="5121360" cy="29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ral interval of intere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latively wi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strong CO2 lin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O2 lines wings free from interfering gas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overed by IRWG optical fil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umber of intervals have been teste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884.9-4888.4 cm-1 – most perpective at the mo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9360" y="2835360"/>
            <a:ext cx="11667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60640" y="2835360"/>
            <a:ext cx="11764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97720" y="2870280"/>
            <a:ext cx="11764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02440" y="6507000"/>
            <a:ext cx="11761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786200" y="2249640"/>
            <a:ext cx="4297320" cy="5144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7320" y="2536920"/>
            <a:ext cx="4324320" cy="4841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06720" y="187200"/>
            <a:ext cx="42973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2   TC   AV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2160" y="741240"/>
            <a:ext cx="10515600" cy="1800"/>
          </a:xfrm>
          <a:prstGeom prst="line">
            <a:avLst/>
          </a:prstGeom>
          <a:ln w="18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5840" y="934920"/>
            <a:ext cx="1106496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suggested 4880 strategy and its combinations with 2600, 3100 and 3300 strategies: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ensitivity has max in the trop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OFS 1.4 – 2.4 (DOFS_trp 1.0 – 1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03480" y="3467160"/>
            <a:ext cx="5349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14800" y="3422520"/>
            <a:ext cx="5349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08880" y="3438360"/>
            <a:ext cx="5349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53400" y="3438360"/>
            <a:ext cx="5349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37480" y="2341440"/>
            <a:ext cx="274680" cy="822600"/>
          </a:xfrm>
          <a:custGeom>
            <a:avLst/>
            <a:gdLst>
              <a:gd name="textAreaLeft" fmla="*/ 0 w 274680"/>
              <a:gd name="textAreaRight" fmla="*/ 99000 w 274680"/>
              <a:gd name="textAreaTop" fmla="*/ 21240 h 822600"/>
              <a:gd name="textAreaBottom" fmla="*/ 801360 h 82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50320" y="2357280"/>
            <a:ext cx="254304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880: OPD=18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00, 3100, 3300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D=18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54800" y="3422520"/>
            <a:ext cx="5349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1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07480" y="3430440"/>
            <a:ext cx="5349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9T07:27:43Z</dcterms:created>
  <dc:creator/>
  <dc:description/>
  <dc:language>en-US</dc:language>
  <cp:lastModifiedBy/>
  <dcterms:modified xsi:type="dcterms:W3CDTF">2018-06-13T12:38:40Z</dcterms:modified>
  <cp:revision>261</cp:revision>
  <dc:subject/>
  <dc:title/>
</cp:coreProperties>
</file>